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558DA-337C-4E0D-9192-C3E24AB47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34936-8A5F-4963-A2CC-4ED4B091F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3E196-B198-4B97-8001-A50F11A0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BF5D-DDCA-4EFE-A3AB-8CE2C354D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0AC56-7BCE-414B-83A9-3546A624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C3A05-842C-46D1-8A33-85DC7D15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F7F0F-CDD5-40AB-9433-2D2FC665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DDD58-4D3D-4742-838D-7C3BE089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8F54-22E1-44FD-8039-05380B1E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08A9-696C-40CD-9519-FA5F41EE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E474-110A-47F7-AC0E-EA678BA2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5AA4-7EB3-46A9-A586-52DA831E2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AA6A-D576-49AC-8632-3866FBCE123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72400" cy="42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Hierarchi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ttlements </a:t>
            </a:r>
            <a:r>
              <a:rPr b="0" lang="en-US" sz="3200" spc="-1" strike="noStrike">
                <a:solidFill>
                  <a:srgbClr val="000000"/>
                </a:solidFill>
                <a:latin typeface="Calibri"/>
              </a:rPr>
              <a:t>can be described as being part of the </a:t>
            </a:r>
            <a:r>
              <a:rPr b="1" lang="en-US" sz="3200" spc="-1" strike="noStrike">
                <a:solidFill>
                  <a:srgbClr val="000000"/>
                </a:solidFill>
                <a:latin typeface="Calibri"/>
              </a:rPr>
              <a:t>urban hierarchy</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hey stand on the hierarchy depends on a number of factors, the main ones being population, the number of services a settlement has and its sphere of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obvious way of deciding where a settlement ranks on the urban hierarchy is by using the </a:t>
            </a:r>
            <a:r>
              <a:rPr b="1" lang="en-US" sz="3200" spc="-1" strike="noStrike">
                <a:solidFill>
                  <a:srgbClr val="000000"/>
                </a:solidFill>
                <a:latin typeface="Calibri"/>
              </a:rPr>
              <a:t>population</a:t>
            </a:r>
            <a:r>
              <a:rPr b="0" lang="en-US" sz="3200" spc="-1" strike="noStrike">
                <a:solidFill>
                  <a:srgbClr val="000000"/>
                </a:solidFill>
                <a:latin typeface="Calibri"/>
              </a:rPr>
              <a:t> of that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r the population, the higher the settlement is placed on the hier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K, the largest city in terms of population is London, which most people would agree is the most important settlement in the country and so deserves to be placed on the top of the urban hierarchy for th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at the divisions between what is classified in each layer is a bit more vag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 sources will have different numbers for how many people are needed for a place to be called a city rather than a town for in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most important thing to notice on the diagram is that as you go up the hierarchy, there becomes a lot less of that type of settl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the diagram shows us that there are huge numbers of isolated farmhouses and hamle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less villages and small towns and so 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K, many people would argue that only London should be placed in the highest rung of the triang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some other large cities, such as Birmingham, Manchester and Leeds are growing fast, and may be considered to have reached the top level as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ttlement Hierarchy</a:t>
            </a:r>
            <a:endParaRPr b="0" lang="en-US" sz="4400" spc="-1" strike="noStrike">
              <a:solidFill>
                <a:srgbClr val="000000"/>
              </a:solidFill>
              <a:latin typeface="Calibri"/>
            </a:endParaRPr>
          </a:p>
        </p:txBody>
      </p:sp>
      <p:pic>
        <p:nvPicPr>
          <p:cNvPr id="51" name="Picture 2" descr="http://www.bbc.co.uk/schools/gcsebitesize/geography/images/set_003.gif"/>
          <p:cNvPicPr/>
          <p:nvPr/>
        </p:nvPicPr>
        <p:blipFill>
          <a:blip r:embed="rId1"/>
          <a:stretch/>
        </p:blipFill>
        <p:spPr>
          <a:xfrm>
            <a:off x="684360" y="1455840"/>
            <a:ext cx="7940520" cy="53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38:01Z</dcterms:created>
  <dc:creator>Dell_02</dc:creator>
  <dc:description/>
  <dc:language>en-US</dc:language>
  <cp:lastModifiedBy>Dell_02</cp:lastModifiedBy>
  <dcterms:modified xsi:type="dcterms:W3CDTF">2011-01-25T23:43:07Z</dcterms:modified>
  <cp:revision>1</cp:revision>
  <dc:subject/>
  <dc:title>Urban Hierarchies</dc:title>
</cp:coreProperties>
</file>